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757-B832-42A9-8252-6CB3422C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E855-97FE-4F5D-82AE-B3663494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D18B-F7C7-423B-A7BD-3E2FEFD8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BE67-7721-4B40-8147-EA85FB7E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1F4-539C-4D26-A8DA-B60BF726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EB7-86CD-42C5-AA0F-8BC76F8D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9503-B49A-48CA-9D86-58320276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0E4-00FC-4157-85E9-0CF26BBF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670-E891-4608-9989-2B0A5F77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C9D0-7EA7-4B9C-A2BC-ED7E8A90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99B8-F9CF-4147-A219-C310A377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5CEF-3562-47C2-A998-06B70EC3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007E-4A09-4777-9467-44B59FCF2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755200" cy="566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4"/>
          <a:stretch/>
        </p:blipFill>
        <p:spPr>
          <a:xfrm>
            <a:off x="539640" y="2421000"/>
            <a:ext cx="3975120" cy="635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5"/>
          <a:stretch/>
        </p:blipFill>
        <p:spPr>
          <a:xfrm>
            <a:off x="896760" y="3860640"/>
            <a:ext cx="3530880" cy="622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6"/>
          <a:stretch/>
        </p:blipFill>
        <p:spPr>
          <a:xfrm>
            <a:off x="34920" y="5300640"/>
            <a:ext cx="456408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642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شر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3"/>
          <a:stretch/>
        </p:blipFill>
        <p:spPr>
          <a:xfrm>
            <a:off x="231840" y="981000"/>
            <a:ext cx="8634240" cy="54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4"/>
          <a:stretch/>
        </p:blipFill>
        <p:spPr>
          <a:xfrm>
            <a:off x="250920" y="3789360"/>
            <a:ext cx="8605800" cy="134136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324000" y="1628640"/>
            <a:ext cx="856908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ؤية الله عز وجل والدليل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5"/>
          <a:stretch/>
        </p:blipFill>
        <p:spPr>
          <a:xfrm>
            <a:off x="2771640" y="2276640"/>
            <a:ext cx="61214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13"/>
          <a:stretch/>
        </p:blipFill>
        <p:spPr>
          <a:xfrm>
            <a:off x="539640" y="2276640"/>
            <a:ext cx="813600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3240"/>
            <a:ext cx="9132840" cy="127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97200" y="4653000"/>
            <a:ext cx="3568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95400" y="828720"/>
            <a:ext cx="898344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675640" cy="460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4680" y="888840"/>
            <a:ext cx="9144000" cy="7700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00536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يسر إلى طريق الجنة من يشاء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4935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ن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954000"/>
            <a:ext cx="3601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 غير المؤمنين وطريق المؤمن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43700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516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وم القيامة نجمع جميع الخل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نام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700360" y="981000"/>
            <a:ext cx="4680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العب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هم إلى دار السلام ويسر سلوك طريقها وهدى من جد في طل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ؤية المؤمنين لربهم جل وعلا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رؤية المؤمنين لربهم جل وعلا في الآخرة 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61620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جازي على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ثلها من غير تضعي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0784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تورثه من حسرة وندامة وما توجبه من خسر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456876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البعث والجز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2"/>
          <a:stretch/>
        </p:blipFill>
        <p:spPr>
          <a:xfrm>
            <a:off x="2484360" y="3030480"/>
            <a:ext cx="6335640" cy="40320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179280" y="506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بلاغة القرآن الكري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رض مشاهد القيامة وتصوير أحوال الآخرة كأنها رأي الع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53896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عبده المشرك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بعبادتهم وسيكون عدواً لهم ويتبراً منهم يوم القي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6027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بادة غير الله سواء كان المعبود نبياً أو ولياً أو حجر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670960" cy="223200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4000" y="342900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ا من سوء السيئة وما تورثه من حسرة وندامة وما توجبه من خسر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7T06:03:02Z</dcterms:modified>
  <cp:revision>1938</cp:revision>
  <dc:subject/>
  <dc:title>عرض تقديمي في PowerPoint</dc:title>
</cp:coreProperties>
</file>